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F59-91B7-4A8E-B6AA-D82007B5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D15-D9CB-42A9-B1BE-B859E93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6B4-191D-4226-972D-ADC93825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ABF-2C25-4E24-A264-77B5783D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70E-336A-4751-ACB0-D064C514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27D-0A72-4309-9ECF-9B737E99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9AE-E4FB-4C4D-9D56-12FEFF1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7CD-ADFA-443E-9FB1-ABE6FF6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59C-E1C8-4960-9C39-BEA0C5F5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415-6289-45A8-8B71-47C744D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F65-FC55-4C2C-8ED5-31999CD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2E6-3FEA-4EB5-97E3-68E11B3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98F6-2FAD-41F5-A4F5-B00960C48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6477120"/>
            <a:ext cx="1582560" cy="237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2041560" cy="13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457200"/>
            <a:ext cx="1544760" cy="23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08660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514600" y="81288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029200" y="6400800"/>
            <a:ext cx="15303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477120"/>
            <a:ext cx="1528920" cy="23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4308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72692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7240" y="396252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590920" y="3657600"/>
            <a:ext cx="168120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105520" y="382680"/>
            <a:ext cx="1519200" cy="228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666880" y="6400800"/>
            <a:ext cx="1582920" cy="237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076720" y="6477120"/>
            <a:ext cx="16290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38280" y="91440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649520" cy="246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304920"/>
            <a:ext cx="17492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560600" cy="23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1697040" cy="254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12380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181480" y="3657600"/>
            <a:ext cx="159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52:20Z</dcterms:modified>
  <cp:revision>9</cp:revision>
  <dc:subject/>
  <dc:title>Slide 1</dc:title>
</cp:coreProperties>
</file>